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wmf" ContentType="image/x-wmf"/>
  <Override PartName="/ppt/media/image23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8;&#1079;&#1086;&#1073;&#1088;&#1072;&#1078;&#1077;&#1085;&#1080;&#1077;:Bezier_curve.s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8;&#1079;&#1086;&#1073;&#1088;&#1072;&#1078;&#1077;&#1085;&#1080;&#1077;:Bezier_quadratic.png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54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2588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Составляющие мультимедиа-приложений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97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324000" y="1197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 и анима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2D9D-45D1-435F-88B3-8603143839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5640" y="1449360"/>
            <a:ext cx="0" cy="5111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38624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7168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005" descr=""/>
          <p:cNvPicPr/>
          <p:nvPr/>
        </p:nvPicPr>
        <p:blipFill>
          <a:blip r:embed="rId1"/>
          <a:stretch/>
        </p:blipFill>
        <p:spPr>
          <a:xfrm>
            <a:off x="971640" y="1424160"/>
            <a:ext cx="2952720" cy="20412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751280" y="4290480"/>
            <a:ext cx="329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 деформации сферы при деформации решет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age007" descr=""/>
          <p:cNvPicPr/>
          <p:nvPr/>
        </p:nvPicPr>
        <p:blipFill>
          <a:blip r:embed="rId2"/>
          <a:stretch/>
        </p:blipFill>
        <p:spPr>
          <a:xfrm>
            <a:off x="971640" y="4299120"/>
            <a:ext cx="2952720" cy="20462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643280" y="1590120"/>
            <a:ext cx="3540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тейнер объемной деформации вокруг деформируемого объек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0E14-2E4E-4975-BA34-85D399CD73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 использования деформатора тип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image009" descr=""/>
          <p:cNvPicPr/>
          <p:nvPr/>
        </p:nvPicPr>
        <p:blipFill>
          <a:blip r:embed="rId1"/>
          <a:stretch/>
        </p:blipFill>
        <p:spPr>
          <a:xfrm>
            <a:off x="576360" y="512640"/>
            <a:ext cx="3744720" cy="2594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image011" descr=""/>
          <p:cNvPicPr/>
          <p:nvPr/>
        </p:nvPicPr>
        <p:blipFill>
          <a:blip r:embed="rId2"/>
          <a:stretch/>
        </p:blipFill>
        <p:spPr>
          <a:xfrm>
            <a:off x="576360" y="3546360"/>
            <a:ext cx="377964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видео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FAE-59A4-4285-A026-231AE9C441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665360"/>
            <a:ext cx="6485040" cy="48657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35280" y="1233360"/>
            <a:ext cx="56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Общий вид окна программы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Ulead Video Studi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39DB-F719-43B7-ABA0-EFF5EEA3E2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0920" y="94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63960" y="114264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Библиотека заготовок, слои и компози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f2bec"/>
                </a:solidFill>
                <a:latin typeface="Arial"/>
              </a:rPr>
              <a:t>в программе </a:t>
            </a:r>
            <a:r>
              <a:rPr b="1" lang="en-US" sz="18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0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50920" y="1197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BA425-D1F3-412C-8AE4-FEE4040AF04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0" y="1484280"/>
            <a:ext cx="4032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 создании такой презентации использовались анимационные заготовки 3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D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итров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ol 3d Studio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видеофрагменты и субтитры из фильма «СФЕРА», анимации созданные во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lash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слайды созданные в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Power Point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, звуковой клип расслабляющей музы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Характеристики временной базы, компрессии и др. представлены на изображении сле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8360" y="1449360"/>
            <a:ext cx="40323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ResKont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6000" y="-2160"/>
            <a:ext cx="83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Мультимедийные компоненты видеопрезентации курса английского ЕМЕ смонтированной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55640" y="2744640"/>
            <a:ext cx="3564000" cy="31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5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Компьютерное ауди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CF43-C73E-4D04-BDD3-271A7CA6B70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3440" y="1341360"/>
            <a:ext cx="0" cy="5112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9080" y="37544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000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gl2-1" descr=""/>
          <p:cNvPicPr/>
          <p:nvPr/>
        </p:nvPicPr>
        <p:blipFill>
          <a:blip r:embed="rId1"/>
          <a:stretch/>
        </p:blipFill>
        <p:spPr>
          <a:xfrm>
            <a:off x="611280" y="1521000"/>
            <a:ext cx="3619440" cy="20192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176560" y="542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gl2-2" descr=""/>
          <p:cNvPicPr/>
          <p:nvPr/>
        </p:nvPicPr>
        <p:blipFill>
          <a:blip r:embed="rId2"/>
          <a:stretch/>
        </p:blipFill>
        <p:spPr>
          <a:xfrm>
            <a:off x="611280" y="4400640"/>
            <a:ext cx="3848040" cy="16477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44720" y="1447920"/>
            <a:ext cx="396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нусоидальный звук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игна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4004280"/>
            <a:ext cx="397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ложный звуковой сигн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C68B-E102-4C93-B5C4-9B86AD49B2D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1000 Г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искретизация сигнала 440 Гц с частотой 5000 Г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3980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l2-10" descr=""/>
          <p:cNvPicPr/>
          <p:nvPr/>
        </p:nvPicPr>
        <p:blipFill>
          <a:blip r:embed="rId1"/>
          <a:stretch/>
        </p:blipFill>
        <p:spPr>
          <a:xfrm>
            <a:off x="287280" y="1387440"/>
            <a:ext cx="4105440" cy="889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35116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gl2-11" descr=""/>
          <p:cNvPicPr/>
          <p:nvPr/>
        </p:nvPicPr>
        <p:blipFill>
          <a:blip r:embed="rId2"/>
          <a:stretch/>
        </p:blipFill>
        <p:spPr>
          <a:xfrm>
            <a:off x="468360" y="3753000"/>
            <a:ext cx="381636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75C6C-1EE0-46BB-9D8C-51CBE495AD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427640" y="350028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рмонический спек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gl2-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3492360" cy="26827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gl2-21" descr=""/>
          <p:cNvPicPr/>
          <p:nvPr/>
        </p:nvPicPr>
        <p:blipFill>
          <a:blip r:embed="rId2"/>
          <a:stretch/>
        </p:blipFill>
        <p:spPr>
          <a:xfrm>
            <a:off x="539640" y="3537000"/>
            <a:ext cx="342108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7A2-68C0-464E-9582-97FC5D2093B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5092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87480" y="20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93920" y="512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4720" y="214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55720" y="509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38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l8-1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092720" cy="54626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256040" y="295920"/>
            <a:ext cx="65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щий вид окна программы Sound For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3C0F-DCEA-47A0-9CDF-A3614FC3F3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Векторная и растровая 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граф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7A37-26F4-41E8-9385-0B1B9FA294B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345cb15e836677e949b72ace996ac052" descr="\mathbf{B}(t) = (1-t)^3\mathbf{P}_0 + 3t(1-t)^2\mathbf{P}_1 + 3t^2(1-t)\mathbf{P}_2 + t^3\mathbf{P}_3, \quad t \in [0,1]"/>
          <p:cNvPicPr/>
          <p:nvPr/>
        </p:nvPicPr>
        <p:blipFill>
          <a:blip r:embed="rId1"/>
          <a:stretch/>
        </p:blipFill>
        <p:spPr>
          <a:xfrm>
            <a:off x="647640" y="2457360"/>
            <a:ext cx="7956720" cy="347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300px-Bezier_curve.svg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42920" y="3465360"/>
            <a:ext cx="2857680" cy="1791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4560" y="1482840"/>
            <a:ext cx="862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В параметрической форме кубическая кривая Безье (n =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описывается следующим уравнен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3465360"/>
            <a:ext cx="0" cy="28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2360" y="3105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1080" y="3643920"/>
            <a:ext cx="384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убическая кривая Безь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B6EF-338B-4834-9564-E0BE361D542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65736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вадратичной кривой Без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троение кривой Безье 4-й степ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Bezier_quadratic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657360"/>
            <a:ext cx="3564000" cy="2251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Bezier_forth" descr=""/>
          <p:cNvPicPr/>
          <p:nvPr/>
        </p:nvPicPr>
        <p:blipFill>
          <a:blip r:embed="rId3"/>
          <a:stretch/>
        </p:blipFill>
        <p:spPr>
          <a:xfrm>
            <a:off x="250920" y="3968640"/>
            <a:ext cx="41400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3097-41B5-4B33-A88D-E0B709E87CC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90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354560" y="43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06880" y="36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905360" y="42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7164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62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30320" y="259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87640" y="91080"/>
            <a:ext cx="71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римерный результат сильной компресси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6404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arrot_1" descr=""/>
          <p:cNvPicPr/>
          <p:nvPr/>
        </p:nvPicPr>
        <p:blipFill>
          <a:blip r:embed="rId1"/>
          <a:stretch/>
        </p:blipFill>
        <p:spPr>
          <a:xfrm>
            <a:off x="647640" y="803160"/>
            <a:ext cx="1714680" cy="3057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75912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nag-0050" descr=""/>
          <p:cNvPicPr/>
          <p:nvPr/>
        </p:nvPicPr>
        <p:blipFill>
          <a:blip r:embed="rId2"/>
          <a:stretch/>
        </p:blipFill>
        <p:spPr>
          <a:xfrm>
            <a:off x="3236760" y="1913040"/>
            <a:ext cx="1047960" cy="1047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41332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nag-0052" descr=""/>
          <p:cNvPicPr/>
          <p:nvPr/>
        </p:nvPicPr>
        <p:blipFill>
          <a:blip r:embed="rId3"/>
          <a:stretch/>
        </p:blipFill>
        <p:spPr>
          <a:xfrm>
            <a:off x="5091120" y="1968480"/>
            <a:ext cx="1028520" cy="1028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68000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7002360" y="800280"/>
            <a:ext cx="1710000" cy="3060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516720" y="836640"/>
            <a:ext cx="0" cy="34210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4000" y="393336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берем на н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ону 8Х8 пиксел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918520" y="3933360"/>
            <a:ext cx="170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жем е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ли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96000" y="3537000"/>
            <a:ext cx="165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бираем сред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иболее использ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мый ц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88360" y="3897000"/>
            <a:ext cx="224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т примерн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силь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пресси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2640" y="5140800"/>
            <a:ext cx="7762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перь весь квадрат 8Х8 пикселей будет окрашен в этот(один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вет, что значительно уменьшит размеры файл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мпрессии.  И так, компрессия произойдет дл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ждого квадрата изобра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084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-анимация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E985-2E39-41EC-A2D0-0FEA8F4753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84720" y="1700280"/>
            <a:ext cx="0" cy="48258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11434" descr=""/>
          <p:cNvPicPr/>
          <p:nvPr/>
        </p:nvPicPr>
        <p:blipFill>
          <a:blip r:embed="rId1"/>
          <a:stretch/>
        </p:blipFill>
        <p:spPr>
          <a:xfrm>
            <a:off x="754200" y="1536840"/>
            <a:ext cx="3313080" cy="2360520"/>
          </a:xfrm>
          <a:prstGeom prst="rect">
            <a:avLst/>
          </a:prstGeom>
          <a:ln w="0">
            <a:noFill/>
          </a:ln>
        </p:spPr>
      </p:pic>
      <p:pic>
        <p:nvPicPr>
          <p:cNvPr id="101" name="27246" descr=""/>
          <p:cNvPicPr/>
          <p:nvPr/>
        </p:nvPicPr>
        <p:blipFill>
          <a:blip r:embed="rId2"/>
          <a:stretch/>
        </p:blipFill>
        <p:spPr>
          <a:xfrm>
            <a:off x="826920" y="3890880"/>
            <a:ext cx="3203640" cy="2562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500720" y="1479960"/>
            <a:ext cx="43192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же в 1906 году Стюардом Блактоном был создан короткий фильм «Забавные выражения веселых лиц» (Humorous Phases of Funny Faces). Автор выполнял на доске рисунок, фотографировал, стирал, а затем вновь рисовал, фотографировал и стирал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A9C-88BA-4AD2-A867-019D0A804F0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430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54560" y="470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38640" y="391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1.1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6985080" cy="56260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268000" y="189000"/>
            <a:ext cx="365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кно программы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9532-5F02-4BA7-AA9D-77D0FC72967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00440" y="16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2.1" descr=""/>
          <p:cNvPicPr/>
          <p:nvPr/>
        </p:nvPicPr>
        <p:blipFill>
          <a:blip r:embed="rId1"/>
          <a:stretch/>
        </p:blipFill>
        <p:spPr>
          <a:xfrm>
            <a:off x="324000" y="2141640"/>
            <a:ext cx="8496000" cy="3124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22520" y="333360"/>
            <a:ext cx="36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Временная диа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052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A02A-0D98-4653-876E-564429178E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414680" y="340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2.3" descr=""/>
          <p:cNvPicPr/>
          <p:nvPr/>
        </p:nvPicPr>
        <p:blipFill>
          <a:blip r:embed="rId1"/>
          <a:stretch/>
        </p:blipFill>
        <p:spPr>
          <a:xfrm>
            <a:off x="142920" y="1874880"/>
            <a:ext cx="8820000" cy="3282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520360" y="333360"/>
            <a:ext cx="35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Покадровая ани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7280" y="87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BC31-049D-4686-8915-FCD1BA4F243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3195720"/>
            <a:ext cx="842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836640"/>
            <a:ext cx="4032360" cy="52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5640" y="1089000"/>
            <a:ext cx="4032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нимация труд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сло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Анимация иллюстрирующая американскую идиому 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1120aa"/>
                </a:solidFill>
                <a:latin typeface="Arial"/>
              </a:rPr>
              <a:t>на ниточке</a:t>
            </a:r>
            <a:r>
              <a:rPr b="1" lang="en-US" sz="1800" spc="-1" strike="noStrike">
                <a:solidFill>
                  <a:srgbClr val="1120aa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68360" y="1233360"/>
            <a:ext cx="403236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Hard sound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PronSpo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имФл\AnimeonLine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16000" y="-18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нимации разработанные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Flash 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для  пособия по английскому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21T03:41:03Z</dcterms:modified>
  <cp:revision>99</cp:revision>
  <dc:subject/>
  <dc:title>Lecture Template </dc:title>
</cp:coreProperties>
</file>